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D5D-2A12-4667-9104-E3F7AD1E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17E-B69F-47B4-9F0C-9CC6216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B66FC-BC19-41B1-8CFE-B60F6366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2F1E9-B893-46C7-B861-542E7CB0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5FA8A-C65A-496C-B95F-684BA15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DD5FD-34FF-4B5F-B45C-B757489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EEE66-F4DC-4437-9297-03B6503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F0757-248C-4E29-8042-D55374B1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D14AC-029C-49BB-9B42-0FF2569E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8441-6D46-460D-9048-7FC13DE3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69B13-82B7-40D0-BDA2-877133E9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5FA67-D314-48E1-B04A-004D1059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900-4517-429F-8EC9-851594D5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025AC-B413-49E0-B2AD-77E63CB3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C2CCE-994E-48F2-8739-916A2590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D66E6-4CE2-49B2-B870-0D89A946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6FC17-C67A-4350-8EA0-909B70F1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2BAFE-2213-48BC-B4C8-7CE90BCD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2FB86-933A-46A6-9755-31B4308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1F96C-A243-4343-B947-FD93A13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57898-C097-4BC2-B4EC-A447378E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14797-9FC6-4108-81A0-39144EB1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F44DB-B146-4E0E-8B4F-0678B11B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5B4-C13C-43E8-84D2-790027E1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ED53D-E1AC-43A3-A736-9583A775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58B2C-4EE9-4198-ABE5-35B33814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4D2F0-02F7-4569-B6DF-E261EDF6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A62E3-A162-4030-AE2C-064AA4B2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4EAEC-D6AF-4579-8661-F57E9350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418E5-1029-4C30-B0EB-5DEB1243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2F305-8545-461F-9BA6-975431CD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64BFA-D2CE-433D-81C1-28618E72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16810-73A0-43AF-BEA9-1DA26FEC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1944B-EF8D-4B6F-86E1-A515A43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D84-9D12-4747-BA2A-822F55FB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8F33D-029C-4215-855C-C3CFB691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03018-D9DB-4D6E-8362-B6F58620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E64A0-5BC4-4EBB-B475-EE03CCA2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64127-0F96-4AA4-90DD-33A6FF85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4A295-5B07-464D-A506-28A27748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042C6-D1FD-4A08-9984-2AA0A117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60E15-A432-431C-B442-9CF8A77B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D66D6-3F31-41A7-A91B-1EDC07C0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C7CCE-9245-4C71-A85D-D7B09B2F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9410B-113C-4E43-B681-73A0B40B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8FFA-EAFD-4C45-ACA0-CED10DC5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3C926-1AAF-4747-9946-D33DFFF8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9CAA9-6537-4D3A-B290-B095403A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3663A-A235-4BFC-A74E-F89679D2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48666-5F97-44D8-9ABE-73A49962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689E5-E236-4AD6-A7BE-0815C206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C3016-BAFD-40D6-A95D-75A49A2E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1BAF8-00A9-457E-A817-A982CD92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CE364-AB73-4AFD-A1CF-A3CD7398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928FE-8ABC-4F38-8F40-DDC52059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35A2A-8DAC-4450-9902-57A664F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B910-D74C-48E9-95D7-ABA525F1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6A367-3097-4E7F-90F7-12495118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70151-1F7E-4F60-837E-8348C31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FA5C8-D5FF-4E4C-A7D9-05A65B6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EE6B6-56FB-4971-A51E-AEE27F0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5036E-4D4C-47A1-A035-E2550A5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47118-CAC3-4108-B9F2-379BBB53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6EF5A-AB0A-4FB8-B34D-7A136FB9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CCD0C-0710-4F99-8C6C-41022A9F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C699D-301B-4E7E-A366-728B92F2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37171-9216-4F1F-BE67-B717553E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06CD-53E2-4896-A614-232C9592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6B8ED-EC49-481F-8FD3-1EF382A3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68FD9-3B76-4B0E-8954-F26CE319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5D56F-5504-49BA-9E72-68D30F63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FA357-6AFA-4505-890D-016514A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CE8C4-6E64-437E-81B6-DCFBB9D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C068F-5E8B-4195-8E70-CBDABA2C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64516-8713-4E63-88A0-1056BC0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913D2-6620-4DD9-B9C8-C407CD24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69940-B5EC-447B-9565-45489ED9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DD638-49E8-4958-BE56-A3BCC14F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696-00D4-40FA-B103-B10FAFC2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C7097-B627-4995-9237-C73A44D5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4BFBA-49E8-4CC9-82E1-E6B89B2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BD603-DE6B-4A3E-85B9-F256876C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C780B-77DF-473C-B923-79182256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A3DE0-1D0E-400C-801F-B9BA0B71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59E7F-0EE0-47F5-ADDA-0E3AA278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7DEAB-1413-4223-9663-4122C464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EED52-48BD-4AEC-8BFE-D4CFC022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2BAEF-468E-47F4-A0AA-E8E77211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C6936-DB0C-4271-9DB0-C487A16E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5DF6-79CD-4DF3-A06E-5E3AB6A8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9009F-BE20-4C0E-A5A6-536E06FC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E0BB4-962B-4676-A781-2524388F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99885-5656-45F4-B5C0-9EFF0D5C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9BAC5-B6DA-4093-9A92-AD86BB2E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CF396-2372-4F74-8C7A-9D106FF0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DA1A4-5BCF-4CBB-B0E1-E418B4D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914C8-6CE8-4C37-B326-E878D958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F6F1C-8CD7-4A0B-9D6C-540C5E7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6C8F5-D2AB-4E71-A37C-F91FE75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201B8-506B-416E-9588-16600664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0C07-EBDF-41DD-B338-018FBCA5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3748C-45D5-4368-B415-3F07AB59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EDD98-01D0-4F8E-82D0-D0DB9B52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EEA7E-1B16-4915-88BE-998F5738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C80E5-DBBF-4671-BF68-7F6B71CB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C79F8-BE9C-42BB-B751-5EC71B4B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7185F1-B24E-450D-8964-C5084490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154E9-ED8B-4622-8F3C-B37AF56D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769ED-3A96-4C2A-87F1-0404F67B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F61D1-2EAD-4F9F-ADE4-26FE59A4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5CB17-88DB-4218-BEF5-81392317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399-1181-4708-9AFA-1C33A8A6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F4C9-6B5E-4743-BD18-46EE05C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32633-E163-4CD8-A7C1-DE3942A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2F145-C622-43C2-A821-DBB408E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7B48B-F8A8-4996-9E8D-332D8D78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E6522-72C9-41EC-847C-EA7562C4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3EAF6-C6A2-45F9-A2C6-0EBCCFE0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98CB5-99FB-4813-AA03-C1A3B73B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A23D9-8EF8-4ECA-9C1B-F433D292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C3D32-25D5-44E0-8E3C-72ADFC1C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7EB1D-A4FC-4044-A350-7F0CB33A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6A6BD-06BD-4EB7-8951-22AE5627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AFEC-D335-427E-9A8A-4EB1F7B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6F3D9-CD0F-456A-BBE4-42372BF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54BB2-6964-4093-9BCE-06138F34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92153-90F2-422B-B739-90E7C10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A1633-41BF-4EF5-9FCF-198AC588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1939FD-3BB6-44C1-AFF2-88E4D14C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B7FA2-D147-4F02-BFE2-EB501B48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E21E4-B3D5-48D5-A290-3EFC2E73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263FB-9C26-4A4F-B71A-FB099938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D5D4F-C106-4104-8F18-C908C19E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8116A-2434-44CF-88E2-DAFD3BE4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8998-9103-400C-B3EB-1337FB6C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BE4EA-79EE-4D85-8E62-10BEBDBF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9049A5-7E87-4DF9-A964-9FAC5D90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98FF0-723B-4497-9652-662B5D15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6589C-081B-4AEA-B0ED-8E50E65D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237F2-E099-4C4E-80A4-CD0A7B47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0E2D9-FBC4-4B45-BDAA-8214F7A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DCA67-0BA1-4E3C-B16D-566F26E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C77D9-2664-4D1B-98D6-1F3971F7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DACC7-99A3-43F6-BF74-BE4A26A7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F2D99C-3267-4C63-B6FC-A8404134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8F5E-EE8A-4397-8329-8B7B362F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25397-E318-4047-B52E-8292380F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874E9-EB39-4048-B916-9C82277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1070C-9A19-43CB-B539-8A3DAA4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1DD5A-F0C7-48D6-ACFF-C19C690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0A107-C105-4BCD-980C-F414510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8B291-AB58-4EAC-BA79-053ECC67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74856-89FE-4410-B532-6123BDC1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3592CF-4696-452F-98FD-4CC1EBE5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2D710-1982-49A6-97AB-EB7BDE0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78EEF-A32C-4B29-9B17-1F16AB3C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2D25-5100-47CE-A6B3-5E9E68D1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BB434-D5DE-4944-B680-B977D2F5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4CDE9-2740-46DA-86E5-91AB3109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5D280-B391-41E7-9D67-B01AFACF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17328-436B-4548-B34A-D5C488BD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E55F2-534C-4508-91B2-ACE655AC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9196D-B7AB-4938-AAE5-65701320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994BC-77A6-4EF6-89EE-1750594A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80624-7B30-4D7E-8F44-693DA428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876B2-6248-4598-A501-ED052C7C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694D4-E980-41D2-AFE1-7308D41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BB31-AE5F-47DE-943D-D80F4050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2DD3A-F8AC-4FB9-9445-EB49E833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A6D863-196D-4132-92B8-AFBF7B2C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30149E-E225-4C8A-9FE8-6AC39528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7F10-52C5-4E31-9709-DA3B8A52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6946-8937-4211-BC56-67E08450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815A-D44D-4B12-B326-E7DE331A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F32B-9DDF-482F-9C06-B7F23690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CB4-78BA-4827-B605-552C6CAD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779E-797A-42CD-ADCB-BA5C091F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0AC9-9BBB-4196-9990-D5AD28A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6F0D-5439-479A-92ED-B597224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3FFE-9666-4449-9E91-E20875E8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0196-B931-4462-8A5A-9F4F2D52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6931-DD20-4284-AFB0-6639CAF5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D0E6-1631-4063-9C22-1ECAF632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9A17-DE70-444B-8319-13C5DA4B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6E7B-3EB8-45E4-A378-0D5C368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8608-7036-4148-962F-E67FD706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917-3C78-4F28-B991-F6C0F77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64DB-14A9-4F88-A890-065DBA74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04CB-8500-45F7-BFB9-2305FC3C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11C1-ECCE-49D1-BD6C-2FC3BF17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F8456-CDD7-47C4-9C74-CB5DC154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EC72-E332-4D3F-9465-5A0EC231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A605-A5E9-42A4-83B0-68C03D3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6164-0189-4997-93CC-B3FCB8FA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83B6-1C9B-4E4F-9A34-C30464E5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024AF-FF71-4BD1-B154-AFE7BE8C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FB5B-D455-4E39-98E8-C7A4BF7B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BF4-69B9-4CD6-9326-541A7035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FB75D-FFEB-4122-96EB-EC665AC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9614-D0FF-4BC2-91F3-C0577140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78B0-3C00-4CC6-A540-4B1EEE88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D21F-B81C-4CF0-AEBD-9A2A3A20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5810-3BFF-48BE-B7E9-09EBDD8A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41B15-831B-4CC3-AAB5-9CC4D7D5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58947-280D-43E4-BD08-80DB6BCD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D6C1C-0EA0-4C03-BAB2-66A51970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777EE-60EB-4B87-A530-BCC2D6BB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F7A3-E198-4CC9-9049-CE17082D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914-07DF-48A5-A493-3C8ACF9C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DF35-4411-43AF-AB36-5AFBC45A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E7438-1CDE-444A-95BF-74E55D33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28DA-7461-4BE5-9BD5-B29989D8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86A09-D508-40C4-A572-F52A410B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C8EC-3D11-44B2-9330-4E58412F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DC9BF-1E00-46F1-A90E-9AF3AB6A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3BBB4-C89B-4DF0-80D8-84CE0DDB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1D64D-F8E7-4181-B7B7-AB19A3D7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AAC29-8B52-4A5A-9649-B12A085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F62A-2C92-4844-B4AC-8BDC17C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B2B-E77F-498B-8543-0831613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1543E-BEFE-4BD3-8F4F-E9959A1D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7744-2690-413F-877E-E9278448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183E6-6BF4-4A28-9C7A-358380CB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AA72-57FB-4AB4-A2F3-DE18DE57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F16DE-44FA-4290-83A8-158A4BA7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15B28-CFBD-4F0A-BB70-9DD772A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E201-280C-4D40-8E21-C4A2D361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4A582-AC12-4A35-8258-2EDECA7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D6F38-9071-46E7-A530-48A047FE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EBB6-BF98-4946-BEF8-E933F85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90F-C9A3-43F5-A4C3-AB50DDC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6A6CA-3CC1-47A2-B6DD-4566B8AD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29065-219E-4C15-BDA6-04E1C7F8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C450-5BB3-4B61-A32C-01EB140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5615-5535-4420-82A4-C3114C82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E8C17-E8F8-49D7-B4F2-9351FBDE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DE1A-B6FA-4A3C-AE47-9314179C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207B5-3815-4680-BA84-DFB7BEED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BEB72-BF20-427E-A60C-1D05FAE9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6056B-13C2-439D-B908-9C2DD894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5EFBE-A03D-4E40-8F4C-0609A210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55A-2F76-4573-9D85-03DB685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A942-AA48-4BF1-8EBC-E3AC3CBB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E286E-7434-423D-8112-15073050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164CB-C36E-4DB4-A9C0-6720F7E4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B13B1-1DF4-407A-97B1-399103E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9615-515D-442D-8132-2C4B1B98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27E50-3829-433F-AE76-BF17C3F4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4FFE7-D8EC-47BD-99BD-93A7B4F5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F75E5-F5F9-4828-88C5-29872962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64235-DF5E-446A-A582-67E9B80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63971-0399-4B7F-988E-EA6A6EA6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90E5-4562-4695-9F92-92DC19392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AF17-AEB7-4861-A61B-69A289184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9B7F-4450-45FF-8992-430A9B3650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637-7737-4311-BCD1-5BE40CDBC8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E693-D0A6-40D4-B2CB-C7A252A42B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DD0-6840-42D5-9918-F3E493A305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A6ED-D783-4FA8-A7F3-A749419ED6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C8F4-6EDC-4886-AB1C-C59BE96F0C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3696-C68F-4175-9D80-503BF40F31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ED78-5EB0-49D1-9A47-C19F8B000C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D7BA-40DB-47D3-912C-72FAAFA86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4AD4-0A5E-431A-ACAE-59E31C3AD0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108-04F9-4575-89D5-2CD5F6B2E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3251-42E8-42D1-85CD-D68E4359F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147F-EFCA-4B7D-A32B-12470342F2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9235-04CC-4200-8E92-15FC5705E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D532-69EB-4557-ACAB-6DF69271A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1644-EFA0-4D4B-BF91-10D7E6EEB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61F1-3CFB-486F-B9F0-B53ED9E5F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9C6E-258E-4F6C-9E92-04AC248988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0DC2-443B-4AA0-A255-F70ECF1F71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B9A-4190-4289-954A-67127FA145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888C-E2A7-44F1-8B87-08C0115F0B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54D8-5E89-424B-9E0C-2B2F9F848C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1541-C12B-4790-94FC-FC68C6A06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DB7-221D-4B63-9970-423FBE760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B4E1-EAA8-4A17-AD68-DBC3A686DE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B278-5A51-4B3E-A802-6666C153D8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644-5712-4863-8927-7056969E9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8BE1-1198-48C5-8EB4-11CDE4DC54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71B0-5A0A-4DF5-B81E-159ED0754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30D7-0F4C-426E-B8A9-337328D2E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96D1-B94B-4433-BE9C-2517B0D1F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8631-A02E-4D8D-A0C0-6B4BB7F9A3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AE17-69C3-4086-B7FD-175ABF9E2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38EE-674D-47B5-A1B7-567E39657E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41D2-8ACB-4E82-8D25-C606E8884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BB97-5902-458D-BD22-C20D1AFB6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F981-CB87-48F2-9D35-E502AD6F8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4266-F9A7-4774-86EA-E34C71B37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23960" y="2881440"/>
            <a:ext cx="58960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461880" y="1405080"/>
            <a:ext cx="8220240" cy="40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5616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5616720" cy="863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250920" y="3559320"/>
            <a:ext cx="5616360" cy="863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324000" y="2982960"/>
            <a:ext cx="561636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250920" y="4479840"/>
            <a:ext cx="842472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250920" y="4956120"/>
            <a:ext cx="84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8609" descr=""/>
          <p:cNvPicPr/>
          <p:nvPr/>
        </p:nvPicPr>
        <p:blipFill>
          <a:blip r:embed="rId1"/>
          <a:stretch/>
        </p:blipFill>
        <p:spPr>
          <a:xfrm>
            <a:off x="619200" y="1362240"/>
            <a:ext cx="7905600" cy="4133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82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7585" descr=""/>
          <p:cNvPicPr/>
          <p:nvPr/>
        </p:nvPicPr>
        <p:blipFill>
          <a:blip r:embed="rId1"/>
          <a:stretch/>
        </p:blipFill>
        <p:spPr>
          <a:xfrm>
            <a:off x="828720" y="1052640"/>
            <a:ext cx="7486560" cy="218124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67586" descr=""/>
          <p:cNvPicPr/>
          <p:nvPr/>
        </p:nvPicPr>
        <p:blipFill>
          <a:blip r:embed="rId2"/>
          <a:stretch/>
        </p:blipFill>
        <p:spPr>
          <a:xfrm>
            <a:off x="776160" y="3508200"/>
            <a:ext cx="7591680" cy="21528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4859280" y="1413000"/>
            <a:ext cx="720720" cy="493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7826400" y="1341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4702320" y="2276640"/>
            <a:ext cx="720720" cy="493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6"/>
          <a:stretch/>
        </p:blipFill>
        <p:spPr>
          <a:xfrm>
            <a:off x="7870680" y="21906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7"/>
          <a:stretch/>
        </p:blipFill>
        <p:spPr>
          <a:xfrm>
            <a:off x="2297160" y="3933720"/>
            <a:ext cx="72072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8"/>
          <a:stretch/>
        </p:blipFill>
        <p:spPr>
          <a:xfrm>
            <a:off x="5076720" y="3933720"/>
            <a:ext cx="720720" cy="4939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9"/>
          <a:stretch/>
        </p:blipFill>
        <p:spPr>
          <a:xfrm>
            <a:off x="7885080" y="3789360"/>
            <a:ext cx="720720" cy="7920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0"/>
          <a:stretch/>
        </p:blipFill>
        <p:spPr>
          <a:xfrm>
            <a:off x="2268360" y="4681440"/>
            <a:ext cx="721080" cy="7192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1"/>
          <a:stretch/>
        </p:blipFill>
        <p:spPr>
          <a:xfrm>
            <a:off x="4903920" y="468144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2"/>
          <a:stretch/>
        </p:blipFill>
        <p:spPr>
          <a:xfrm>
            <a:off x="8058240" y="469584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528480" y="1252440"/>
            <a:ext cx="8087040" cy="4353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4135320"/>
            <a:ext cx="410364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03280" y="4653000"/>
            <a:ext cx="410364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258920" y="5157720"/>
            <a:ext cx="410364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580000" y="3919680"/>
            <a:ext cx="309564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796000" y="4451400"/>
            <a:ext cx="309564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966960" y="1019160"/>
            <a:ext cx="7210080" cy="4819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2050920" y="4178160"/>
            <a:ext cx="468180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468144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268360" y="5243400"/>
            <a:ext cx="4681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976320" y="1133640"/>
            <a:ext cx="7191360" cy="45907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1476360" y="3227400"/>
            <a:ext cx="5327640" cy="849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1476360" y="4192560"/>
            <a:ext cx="5327640" cy="849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1619280" y="5157720"/>
            <a:ext cx="5327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281160" y="1281240"/>
            <a:ext cx="8581680" cy="4295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633600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633600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633564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1116000" y="4508640"/>
            <a:ext cx="633564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971640" y="5013360"/>
            <a:ext cx="633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285840" y="1781280"/>
            <a:ext cx="8572320" cy="3295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826920" y="296856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826920" y="397656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504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285840" y="771480"/>
            <a:ext cx="8572320" cy="5315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826920" y="2449440"/>
            <a:ext cx="496908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4968720" cy="792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496872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39640" y="4595760"/>
            <a:ext cx="4969080" cy="792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611280" y="5487840"/>
            <a:ext cx="741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04840" y="1405080"/>
            <a:ext cx="8734320" cy="40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900000" y="2693880"/>
            <a:ext cx="561672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561672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561672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11280" y="4292640"/>
            <a:ext cx="561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611280" y="4797360"/>
            <a:ext cx="561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1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864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0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